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apbig0g.wav" ContentType="audio/x-wav"/>
  <Override PartName="/ppt/media/zipdn102.wav" ContentType="audio/x-wav"/>
  <Override PartName="/ppt/media/bserie06.wav" ContentType="audio/x-wav"/>
  <Override PartName="/ppt/media/jetflyby2.wav" ContentType="audio/x-wav"/>
  <Override PartName="/ppt/media/hzipup01.wav" ContentType="audio/x-wav"/>
  <Override PartName="/ppt/media/lzipup01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8E90-F80D-48C0-85E5-7D8BB4DE4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496D-49CE-41BB-80AC-9A6DD4178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C319-CC7C-46CD-866A-CF222BCF3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C95B-E76B-4807-BB96-ADAB37F38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AEB7-5CAE-4CAA-93D8-6ACD7BDC6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4DAA-29A4-4C9F-B4DA-8DB7117BF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A947-7238-4040-A967-B44CA8C05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9DC9-2850-4E39-9857-D75B049B1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ABA2-ABC9-4DF3-8368-3B5BF1B50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FC53-905B-41F9-8451-70233376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5444-B273-49E7-B2A0-0D43D80A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7CCC-79E8-4BBB-B554-FEA64935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39622-234D-4BF3-A9F8-1DB5829E57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audio" Target="../media/zipdn102.wav"/><Relationship Id="rId6" Type="http://schemas.openxmlformats.org/officeDocument/2006/relationships/audio" Target="../media/bserie06.wav"/><Relationship Id="rId7" Type="http://schemas.openxmlformats.org/officeDocument/2006/relationships/audio" Target="../media/jetflyby2.wav"/><Relationship Id="rId8" Type="http://schemas.openxmlformats.org/officeDocument/2006/relationships/audio" Target="../media/jetflyby2.wav"/><Relationship Id="rId9" Type="http://schemas.openxmlformats.org/officeDocument/2006/relationships/audio" Target="../media/jetflyby2.wav"/><Relationship Id="rId10" Type="http://schemas.openxmlformats.org/officeDocument/2006/relationships/audio" Target="../media/zipdn102.wav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jetflyby2.wav"/><Relationship Id="rId3" Type="http://schemas.openxmlformats.org/officeDocument/2006/relationships/audio" Target="../media/hzipup01.wav"/><Relationship Id="rId4" Type="http://schemas.openxmlformats.org/officeDocument/2006/relationships/audio" Target="../media/hzipup01.wav"/><Relationship Id="rId5" Type="http://schemas.openxmlformats.org/officeDocument/2006/relationships/audio" Target="../media/jetflyby2.wav"/><Relationship Id="rId6" Type="http://schemas.openxmlformats.org/officeDocument/2006/relationships/audio" Target="../media/jetflyby2.wav"/><Relationship Id="rId7" Type="http://schemas.openxmlformats.org/officeDocument/2006/relationships/audio" Target="../media/zipdn102.wav"/><Relationship Id="rId8" Type="http://schemas.openxmlformats.org/officeDocument/2006/relationships/audio" Target="../media/hzipup01.wav"/><Relationship Id="rId9" Type="http://schemas.openxmlformats.org/officeDocument/2006/relationships/audio" Target="../media/hzipup01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zipdn102.wav"/><Relationship Id="rId13" Type="http://schemas.openxmlformats.org/officeDocument/2006/relationships/audio" Target="../media/zipdn102.wav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hzipup01.wav"/><Relationship Id="rId3" Type="http://schemas.openxmlformats.org/officeDocument/2006/relationships/audio" Target="../media/hzipup01.wav"/><Relationship Id="rId4" Type="http://schemas.openxmlformats.org/officeDocument/2006/relationships/audio" Target="../media/jetflyby2.wav"/><Relationship Id="rId5" Type="http://schemas.openxmlformats.org/officeDocument/2006/relationships/audio" Target="../media/jetflyby2.wav"/><Relationship Id="rId6" Type="http://schemas.openxmlformats.org/officeDocument/2006/relationships/audio" Target="../media/zipdn102.wav"/><Relationship Id="rId7" Type="http://schemas.openxmlformats.org/officeDocument/2006/relationships/audio" Target="../media/hzipup01.wav"/><Relationship Id="rId8" Type="http://schemas.openxmlformats.org/officeDocument/2006/relationships/audio" Target="../media/hzipup01.wav"/><Relationship Id="rId9" Type="http://schemas.openxmlformats.org/officeDocument/2006/relationships/audio" Target="../media/jetflyby2.wav"/><Relationship Id="rId10" Type="http://schemas.openxmlformats.org/officeDocument/2006/relationships/audio" Target="../media/zipdn102.wav"/><Relationship Id="rId11" Type="http://schemas.openxmlformats.org/officeDocument/2006/relationships/audio" Target="../media/zipdn102.wav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jetflyby2.wav"/><Relationship Id="rId3" Type="http://schemas.openxmlformats.org/officeDocument/2006/relationships/audio" Target="../media/jetflyby2.wav"/><Relationship Id="rId4" Type="http://schemas.openxmlformats.org/officeDocument/2006/relationships/audio" Target="../media/hzipup01.wav"/><Relationship Id="rId5" Type="http://schemas.openxmlformats.org/officeDocument/2006/relationships/audio" Target="../media/hzipup01.wav"/><Relationship Id="rId6" Type="http://schemas.openxmlformats.org/officeDocument/2006/relationships/audio" Target="../media/jetflyby2.wav"/><Relationship Id="rId7" Type="http://schemas.openxmlformats.org/officeDocument/2006/relationships/audio" Target="../media/jetflyby2.wav"/><Relationship Id="rId8" Type="http://schemas.openxmlformats.org/officeDocument/2006/relationships/audio" Target="../media/zipdn102.wav"/><Relationship Id="rId9" Type="http://schemas.openxmlformats.org/officeDocument/2006/relationships/audio" Target="../media/hzipup01.wav"/><Relationship Id="rId10" Type="http://schemas.openxmlformats.org/officeDocument/2006/relationships/audio" Target="../media/hzipup01.wav"/><Relationship Id="rId11" Type="http://schemas.openxmlformats.org/officeDocument/2006/relationships/audio" Target="../media/jetflyby2.wav"/><Relationship Id="rId12" Type="http://schemas.openxmlformats.org/officeDocument/2006/relationships/audio" Target="../media/zipdn102.wav"/><Relationship Id="rId13" Type="http://schemas.openxmlformats.org/officeDocument/2006/relationships/audio" Target="../media/jetflyby2.wav"/><Relationship Id="rId14" Type="http://schemas.openxmlformats.org/officeDocument/2006/relationships/audio" Target="../media/zipdn102.wav"/><Relationship Id="rId15" Type="http://schemas.openxmlformats.org/officeDocument/2006/relationships/audio" Target="../media/zipdn102.wav"/><Relationship Id="rId16" Type="http://schemas.openxmlformats.org/officeDocument/2006/relationships/audio" Target="../media/zipdn102.wav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3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Simplify by Combining Like Term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368280" y="1477800"/>
                <a:ext cx="29163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10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3100320" y="2260440"/>
                <a:ext cx="57960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843120" y="2057400"/>
                <a:ext cx="231588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801800" y="3000240"/>
                <a:ext cx="8953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4248000" y="1469880"/>
                <a:ext cx="36799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4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7594560" y="2309760"/>
                <a:ext cx="57960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4700520" y="2065320"/>
                <a:ext cx="294804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5775480" y="2992320"/>
                <a:ext cx="9493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7245360" y="1397160"/>
                <a:ext cx="420840" cy="7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3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Simplify by Combining Like Term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396720" y="1512720"/>
                <a:ext cx="489132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3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2624040" y="2614680"/>
                <a:ext cx="63360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760320" y="2360520"/>
                <a:ext cx="184320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1763640" y="3514680"/>
                <a:ext cx="100008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3427560" y="1413000"/>
                <a:ext cx="420480" cy="7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1101600" y="2205000"/>
            <a:ext cx="696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13000" y="2198520"/>
            <a:ext cx="696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5529240" y="2643120"/>
                <a:ext cx="58104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3551400" y="2382840"/>
                <a:ext cx="205416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2738520" y="3529080"/>
                <a:ext cx="14745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2371680" y="2197080"/>
            <a:ext cx="69696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83080" y="2190600"/>
            <a:ext cx="69696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3065400" y="2498760"/>
                <a:ext cx="63180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3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Simplify by Combining Like Term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244440" y="1527120"/>
                <a:ext cx="49370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2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378160" y="2730600"/>
                <a:ext cx="8967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x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522360" y="2476440"/>
                <a:ext cx="200160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474920" y="3514680"/>
                <a:ext cx="157932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1101600" y="2205000"/>
            <a:ext cx="696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328920" y="219852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3718080" y="2484360"/>
                <a:ext cx="189540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9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3035160" y="3529080"/>
                <a:ext cx="10540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2371680" y="2197080"/>
            <a:ext cx="69696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11520" y="2190600"/>
            <a:ext cx="69696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3152880" y="2629080"/>
                <a:ext cx="63180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3 – 3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Simplify by Combining Like Term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338040" y="1461960"/>
                <a:ext cx="54752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2417760" y="2462040"/>
                <a:ext cx="79056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574560" y="2476440"/>
                <a:ext cx="189576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684440" y="3540240"/>
                <a:ext cx="115884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1101600" y="2205000"/>
            <a:ext cx="696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67200" y="2198520"/>
            <a:ext cx="768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743280" y="2484360"/>
                <a:ext cx="184320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633760" y="3656160"/>
                <a:ext cx="110628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3125880" y="2197080"/>
            <a:ext cx="69696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06960" y="2190600"/>
            <a:ext cx="69696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152880" y="2629080"/>
                <a:ext cx="63180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352600" y="1457280"/>
                <a:ext cx="42084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116240" y="1450800"/>
                <a:ext cx="42084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5568840" y="2620800"/>
                <a:ext cx="63180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6180120" y="2540160"/>
                <a:ext cx="84132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773520" y="3760920"/>
                <a:ext cx="116028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53828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67, 3 – 3 #1-16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#48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5-09-13T14:48:04Z</dcterms:modified>
  <cp:revision>55</cp:revision>
  <dc:subject/>
  <dc:title>Slide 1</dc:title>
</cp:coreProperties>
</file>